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618A-3653-4818-AC29-E7E180FF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EB9-98D7-4747-9518-03AC1015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F5B0-6032-4AF7-8365-65FE53BA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98B-5EC1-4201-91BB-0E3936B7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633A-E674-4D90-A990-E5D4DF5B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4D80-63A7-4C00-A08C-60A1DB69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2DA7-25F0-4FBD-8222-3A08E045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22B4-3AA8-4F52-B9A5-58FDA606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0A9D-4101-4438-9AD5-EED9A796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7F69-FB5C-4AFD-95DC-FABF0383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FC45-B4CF-4912-8949-55CD7CFC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615B-4693-41B2-932B-2C85CED1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F218-5418-45A7-8745-F4119A49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3509-7C2E-407B-BEDE-DA1EA27F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1C76-3597-4F9A-98B7-09635CE5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703A-1930-462B-8855-24D67227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0C7E-6EEE-44F3-B688-26477E6E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9A1C4-2B13-4438-AA3C-C1A87940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AAC93-CD57-4CEC-ACBD-A3EF44A5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66267-8B32-445A-B571-D30BD3A6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739D6-53B9-4AE4-9F85-80CE8D70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2FEE3-0AA5-4E0E-9551-376FFC84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06EE-CD31-4575-B32B-2B86C59E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43E43-C2A8-4972-B3AC-447AFC52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CE080-4EF1-480D-A6D2-63E98B4A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9B7D9-7EEA-4B2F-987E-C0236920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FB515-5521-4CFF-B382-06979DC2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7E607-DECE-403B-822B-877607EF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B6E824-5EF1-4D9D-9804-DA7EE30F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A7793-0EFD-4571-A08F-F99FE83E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232F8-2A60-4ACF-B048-AB096C40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88BA4-E717-439F-9630-960397A1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63546-C4C1-4E44-9DE6-FE6FEFD5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4453-7906-475A-8FC4-1E8FEE01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4A48B-2BE3-4DEB-AFCD-88B44125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04A40-C91F-4146-94B0-F65D9525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F965C-AEBB-459B-812F-605BB11D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7E1FA-371E-4C35-985C-1F8DCAD8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88B04-42C5-49FA-804E-C4DE7050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EED81-930B-48D0-98DF-9747D72D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007CE-74D2-4750-B333-7390D5EA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2779D-DA87-4E7C-9290-B9C7162A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42496-8211-431A-BDDB-43D05C5B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1ABF86-4A5A-4D12-842C-4BA625AA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878-AA10-458A-A2D4-D08D17D2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D071AB-2E0B-46C6-8285-236CFAF7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D54C86-C8EE-49C5-9989-6CBD5979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3C5BB-5B20-41A3-A441-6F7833CB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B4ABA2-EA2B-4407-97C9-23DEA65A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FF4D2B-7796-44C1-9C15-8CE773EE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2CAABE-D7F1-4053-A850-9BB539B2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BDA2BD-BDD9-4902-A7A0-F9B70971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5FA98E-8736-4869-B136-2D58BDE3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BFEA3-024E-487D-9AB9-35BAC50A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2594F4-B5ED-45B4-BB05-7DBE4DA1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E5BC-169A-474F-A996-01697588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7AA2A-1FB3-4B4E-930F-516BB02D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E94EB4-5770-4231-8050-03EC76AF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8C3685-8C8E-4291-A844-41CA519A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FDDFE0-1B2F-4197-BC56-7958602F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11FF4C-3711-4319-BB68-2A13E687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A3A11C-ABA8-43E8-908F-8536A100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BCC997-1457-49C6-9B43-1CCB7663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1E1FD2-91FF-4834-B357-710D1426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17D4AF-FD33-4C81-A176-6AE01B7D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412CC8-F4E9-42A3-A9F3-BC589CE1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47E-D165-4F02-9CBF-36138AB0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84D376-15F6-467A-940C-6B869119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4B7780-A4B1-4F48-9B36-5B6C4069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080B6-202A-4B71-94C7-354D81E4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126C43-865A-4D3A-AF1F-EF6F1FEE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5C6F11-BF7F-40C6-8204-01504160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8C517F-3E70-4C0B-A2F6-99AF6463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36612F-4EFF-413B-8988-6AC45DC5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7BBBD-8AF8-4B92-ACC9-84BC981C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31E45C-9F4E-493C-9A59-1AE49D48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207AC9-8221-41CE-9146-31D53C68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2EB-66FF-4BF5-9B92-D3212C4C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1C7BBE-EEC5-4B76-B658-9C602C06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F2E5A1-8B8A-4948-B898-107CB9B7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B72179-265E-40B9-965C-C6C9F5B7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74689E-BB0D-4054-814D-358F14E3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F05EC2-1F93-42BD-82B7-1C0D2EF1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BF2-EFBF-466B-8CD5-89F8ECC4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F3B4-A3C0-4524-B0F1-B482451DC3CA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0B21-C35F-4203-B9D6-9B82D699964B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6A27-35EA-46B5-A7D3-0A3C71E0DF64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20A0-824E-44C1-A36E-9255C0328801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DAEC-DDA3-4F38-AAE1-DE058E4F542E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2139-ED5F-40D5-9D04-636972A6E5CD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04AD-972C-44F7-A80A-F2842A8CCF29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42720" y="57168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          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HARRIET GWYNNE’S </a:t>
            </a: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               ROMAN VILL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5" descr="http://www.gardenvisit.com/assets/madge/fishbourne/original/fishbourne_original.jpg"/>
          <p:cNvPicPr/>
          <p:nvPr/>
        </p:nvPicPr>
        <p:blipFill>
          <a:blip r:embed="rId1"/>
          <a:stretch/>
        </p:blipFill>
        <p:spPr>
          <a:xfrm>
            <a:off x="2714760" y="2928960"/>
            <a:ext cx="5695920" cy="356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1</a:t>
            </a:r>
            <a:r>
              <a:rPr b="0" lang="en-US" sz="3000" spc="-1" strike="noStrike" baseline="30000">
                <a:solidFill>
                  <a:srgbClr val="575f6d"/>
                </a:solidFill>
                <a:latin typeface="Century Schoolbook"/>
              </a:rPr>
              <a:t>ST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STAG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 made the base of the structur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n I made the pillars for under the entrance roo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928880" y="2786040"/>
            <a:ext cx="4827600" cy="385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2ND STAG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xt I added the main pool to the villa and added a roof and pillars to it for sha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1"/>
          <a:stretch/>
        </p:blipFill>
        <p:spPr>
          <a:xfrm>
            <a:off x="2857680" y="3286080"/>
            <a:ext cx="2485800" cy="278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3</a:t>
            </a:r>
            <a:r>
              <a:rPr b="0" lang="en-US" sz="3000" spc="-1" strike="noStrike" baseline="30000">
                <a:solidFill>
                  <a:srgbClr val="575f6d"/>
                </a:solidFill>
                <a:latin typeface="Century Schoolbook"/>
              </a:rPr>
              <a:t>RD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STAG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xt I added the path of the garden down the middle of the platform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1500120" y="3500280"/>
            <a:ext cx="5181840" cy="181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4</a:t>
            </a:r>
            <a:r>
              <a:rPr b="0" lang="en-US" sz="3000" spc="-1" strike="noStrike" baseline="30000">
                <a:solidFill>
                  <a:srgbClr val="575f6d"/>
                </a:solidFill>
                <a:latin typeface="Century Schoolbook"/>
              </a:rPr>
              <a:t>TH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STAG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the next stage I added another pool off the side of the garden that meant that I had to extend the main platform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2714760" y="2714760"/>
            <a:ext cx="3581280" cy="36385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5</a:t>
            </a:r>
            <a:r>
              <a:rPr b="0" lang="en-US" sz="3000" spc="-1" strike="noStrike" baseline="30000">
                <a:solidFill>
                  <a:srgbClr val="575f6d"/>
                </a:solidFill>
                <a:latin typeface="Century Schoolbook"/>
              </a:rPr>
              <a:t>TH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STAG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xt I made the arch between the entrance and the ga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1714680" y="2857680"/>
            <a:ext cx="5257800" cy="2685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6</a:t>
            </a:r>
            <a:r>
              <a:rPr b="0" lang="en-US" sz="3000" spc="-1" strike="noStrike" baseline="30000">
                <a:solidFill>
                  <a:srgbClr val="575f6d"/>
                </a:solidFill>
                <a:latin typeface="Century Schoolbook"/>
              </a:rPr>
              <a:t>TH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STAG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the next stage it was just adding the finishing stages to the pools and garden like adding the colo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 rot="21436200">
            <a:off x="2785680" y="2701800"/>
            <a:ext cx="3610080" cy="38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7</a:t>
            </a:r>
            <a:r>
              <a:rPr b="0" lang="en-US" sz="3000" spc="-1" strike="noStrike" baseline="30000">
                <a:solidFill>
                  <a:srgbClr val="575f6d"/>
                </a:solidFill>
                <a:latin typeface="Century Schoolbook"/>
              </a:rPr>
              <a:t>TH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STAGE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xt I added the trees and ornamental plants to the garden path. (I downloaded from Google sketchup 3d warehous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tretch/>
        </p:blipFill>
        <p:spPr>
          <a:xfrm>
            <a:off x="3214800" y="2928960"/>
            <a:ext cx="2485800" cy="3676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Y HARRIET GWYNN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anks for watching I hope you enjoyed it!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ye for now!!!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 rot="21436200">
            <a:off x="2785680" y="2701800"/>
            <a:ext cx="3610080" cy="385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3:13:45Z</dcterms:created>
  <dc:creator>Diocesan School for Girls</dc:creator>
  <dc:description/>
  <dc:language>en-US</dc:language>
  <cp:lastModifiedBy>Diocesan School for Girls</cp:lastModifiedBy>
  <dcterms:modified xsi:type="dcterms:W3CDTF">2009-09-08T23:44:59Z</dcterms:modified>
  <cp:revision>31</cp:revision>
  <dc:subject/>
  <dc:title>Slide 1</dc:title>
</cp:coreProperties>
</file>